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01D-86D1-4F73-8337-16DD5B1F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4A8-A350-478D-832D-C8C224EB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1E3-61BC-40B9-98DA-36A5DA6B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5D9-B418-40F8-B039-336BE00D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619-C093-47A6-B704-FAD6BCA0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97C-0815-431A-876B-0A9081D8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A3F-8DE6-44BB-9A8B-A04B9F35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50E-05B5-4855-A626-E67091D0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681-355E-4794-856D-BEC21550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4E7-91D3-409A-B5A3-6BA8BF0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FC1-B124-4B22-BF36-34C5423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5BA-5AA5-4EF4-AC83-985979B2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8776-4501-4703-B8B5-907771D5B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Boiscl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lassification pertains to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lack a membrane bound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receives materials from the endoplasm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iculum and sends them to other parts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LGI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lassification pertains to cells that have a membr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nd nucleus as well as specialized organel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EU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directs all of the cells activ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re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heory states three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All living things are composed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ells are the basic unit of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unction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ll cells are made from other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CEL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ientist concluded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nimals are composed of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cientist was one of the first peopl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single celled organisms we now called bac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LEEUWEN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n concluded that all plants are made of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SCHL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chow concluded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13816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all cells are made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 one of the first people to observe c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is HO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strument uses tiny beams of electr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learly magnify 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is able to distinguish individual parts of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it is said to have high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type of instrument that bends ligh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fy images and has *multiple* l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ructure helps in protec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iving structure to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CELL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is a network of passageways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y materials from one part of the cell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OPLASMIC RET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rganelle is much bigger in plan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in animal cells. It also aids in cell survi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VACU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ganelle which is the “powerhouse”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ere cell energy is produc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iny factory like structures that produce prote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cell is found in humans, dogs, turtles, 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NIM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lasts and cell wall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in which type of c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.</cp:lastModifiedBy>
  <cp:lastPrinted>2001-01-31T16:21:13Z</cp:lastPrinted>
  <dcterms:modified xsi:type="dcterms:W3CDTF">2008-02-06T02:49:20Z</dcterms:modified>
  <cp:revision>64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